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2DB-4A16-4E5D-98B3-5B379A88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2D7-7D5B-4D5F-936B-F6A54172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CDA3C-124B-4639-B416-E9D45138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BE7B2-437F-4CE3-B743-9359771A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FE156-C9F6-4CF3-85C0-91E05F83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A6D6A-4419-40FB-98F8-9075D9D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F20B3-921D-4141-ACAB-7AE33A8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9C06-563C-4E2B-A3C6-0D04DB3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39883-88EE-482F-A66C-34466306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70D8-81C1-4AE4-81D6-AE1F1EE4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3E623-BA63-48DF-9236-F02F3097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18D-29E0-4E1F-BBE6-3F4CDA0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FE4-398E-4A07-9A2D-C131F0C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14D-50E8-4BD8-A418-82E11AF9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97FA-B49A-4CE4-AFB6-B6147A6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C686-F463-46D4-9854-4F3843EC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EC3C-B320-4A09-8FDA-F84D31C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256A-B6FC-4CDA-915A-AA4579B8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74F4-6DFF-4469-82F6-BD27B6B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254-C61D-4ABB-BBDB-9D11382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304-FCC0-4B5C-96EE-0BDBE8F4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F24C-32DB-43E7-A385-31BBA268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C892-E87D-4C65-B605-59B4A776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2551-D016-47A6-BD3D-4184EC8A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0E7-D4DC-4039-8A1E-330B5248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FDF5-7C88-4757-B2CC-8C6E93F1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CE3A-8066-4C05-B2F8-CCA60285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7AF8D-AE16-41EA-B4DD-4D9A5DB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818E-E346-422F-909D-2132EF69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B15C-7155-4933-8D3D-62C37FF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F652-5B13-4955-B5B2-D3F4807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C17-51F9-4702-85FE-D785F846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DFE4-F041-446E-A139-A5D7081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2BE6-2868-4F38-9848-0BA1BF2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5068-C45E-4A21-9D66-08AEB6E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2F04-7E11-47E4-B203-E830BAD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22F1-B679-410D-898D-AD7D33A1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0A042-4901-4CDE-A3FD-2ACFCC92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5014-AF22-41AE-BB32-B0C879FD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FE49-1BE0-497C-B1D8-3C326F2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F454-9F3E-4552-8F7D-0CF4D478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BECF-92DC-4061-B3B4-DAEF8BF6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A58-491F-415C-8BCC-3E16EAC1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2E06-AE35-493A-9E71-F7EA1AEC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860DF-21E6-4FAA-B930-59E912F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7922-ECC0-4503-9EF7-2CA32541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272C8-C39C-4005-92A5-7EB6F62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A9B3-7F2E-4AE0-9932-1753718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0824-65FC-4F29-92FD-59293CA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A19C-8531-451B-92EF-C99F6574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39628-673B-4A98-AEF4-842B3A0D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5C51-CA9C-43AF-B10F-FD631999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F4C9-160B-4918-8081-94D127ED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9D9-5532-4382-847B-6DE6C390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3DFA9-A0EA-4AF0-8EA8-94888B8E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B2F6-4837-4819-B0E1-FA6CF583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8A77-1FAB-471C-8488-4D20F8AE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DAD9-F4BA-442A-B3BB-A678F38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E129-EEFE-4B51-8F12-D0C67FE5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BEB5-CAB6-4DAE-A08F-AEC5688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EF1F-D7AE-43BB-AACA-009214D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1C0B-2182-4728-9DC0-190197C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1C75-9D97-4D3B-9B7B-02F84E4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90FD-2BA8-4FA6-BBBC-9B1D6E98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4E4-4B2E-4BB4-A88F-F505C25B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B9AF2-A6C5-47CC-B19D-E702EB16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DDEC-C1C0-4A39-A6BB-0AFAA429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542E-E69F-4E7F-ACA5-759B54C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AEDA5-959E-4B46-9606-7872D70C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7F524-E1C6-434C-8716-3D8C103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C447-085D-4772-A588-97B3BF9C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EFE6-2D50-4D06-A5D7-48873A6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7C61-254F-4C1B-B4F2-EE217133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2CD8F-52E0-48A0-9802-2604B37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DAA7-268C-4EFA-A4A6-40FA25E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5B5-BD24-4361-8F68-BEBEC9E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7133-547A-4E46-91D4-FD426F8D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4DCA-DFF5-431A-BAE5-17F4B375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2CD8-7332-40C2-BA44-72F66AB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86C3D-7F03-462F-9A7A-08E505A9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D69F-CB54-4CC4-B43C-22A5138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39026-322E-4CE9-9273-CB85222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5E2BE-0854-48BA-8621-B5ADB02D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12F41-6FA9-4768-BB7B-2F4E344F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53E1-2598-404C-9311-69E56B0A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308A0-EF56-4998-8636-83038AA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B2C-B063-4CCA-8541-591E969A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B5ED-3C0F-47DE-AB7D-2CAD162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BA94A-0417-44E2-8796-AA58750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97D5-D004-4353-8846-05CE1FE4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934E-E410-474B-A498-ECBDCB6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900FF-59A6-444C-A626-BD13EA71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73267-ED9C-4E32-BD36-754FB45D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3298-8DCF-4C85-B4C7-BE65C652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1AC4D-77C2-4B3A-A203-7F6C4F01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4D3B-F086-4B3F-9D99-4F9D334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493A2-F605-44B5-94E2-9D327B66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22A-1D48-4E61-8935-D4965A6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B954B-A557-40DB-978C-D1EB579E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1B9CA-8117-48AB-A0EA-6CB4A58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C31C-19A9-4E27-A870-269F72A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D851-8ED1-4664-BD9A-EF41308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F241F-2275-4EE4-8074-42D5D6EC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67676-B3E1-45CF-8A92-961C5C50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C68EE-A690-494E-9BED-A9CF27BC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DC1A1-F2D0-4228-97E3-D7BF6FFC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A6054-C63F-4AD3-8283-4A328735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F9DC3-9DA7-4BFB-B457-8EA2751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544E-1127-4F27-97FB-972FE5C051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111E-9979-4609-8A2B-B487344153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105-17CF-4A24-9A58-C9DC01742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5A7C-4AAA-41D4-B394-1AE316904C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2C3-6AB8-43A7-AF33-2C8090EBFB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D766-DA38-4096-88BB-AADBB5C86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DF1-E475-414B-BCDB-D63020477E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963-4A8A-4FE2-A632-BC8C0D68A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F8F9-044C-4C9E-B745-021B8BAFCD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457200" y="1600200"/>
          <a:ext cx="8229600" cy="455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now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a s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ond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invat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ear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3:49:59Z</dcterms:created>
  <dc:creator>Alexandru B</dc:creator>
  <dc:description/>
  <dc:language>en-US</dc:language>
  <cp:lastModifiedBy>Csip</cp:lastModifiedBy>
  <dcterms:modified xsi:type="dcterms:W3CDTF">2011-01-29T16:24:41Z</dcterms:modified>
  <cp:revision>9</cp:revision>
  <dc:subject/>
  <dc:title>Diagrama KVL</dc:title>
</cp:coreProperties>
</file>